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C26-0836-451A-826A-AA702A00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EB1-9F2D-4660-8783-3995460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4E9EC-7D6D-4B95-B52A-2893E65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B1F21-A21A-41D1-8431-FB1FF77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54EE-119D-469F-9F1A-D95AFE5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903F3-F110-4BA1-99B9-B686721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E4413-92F4-4D88-956C-B3FDBC6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F8378-39F1-4D8A-B14F-7E6C3836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DA1CC-7E52-4BFF-9E71-D45B0DA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FA87C-5AF5-47B3-9AC0-5AEF471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14A7-FF11-454A-8EDB-F75CBB5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143E8-6ADC-4203-84EE-DF0F0EC8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140-1E9A-4CF7-A511-11157F90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9DB28-BB74-4995-9A4C-2B57F5E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D090D-4BF8-4E03-A782-3C0D3C2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1D98-F149-4C9B-8F49-532D1F0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21E82-433A-4B52-9105-4A37E096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82027-A4F8-44C1-8E65-3E84B299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9B9D3-EDB9-41C1-93A2-DC63430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4DB8-57AE-426B-912D-7057111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5D0FE-0C4A-4024-99B3-3A91E932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34121-A061-485F-88F5-286433C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CBDD-D5C0-44B1-9B62-86BFC871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688-837C-45CD-BFD8-CFF034F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C3C7F-84E0-447D-9788-7B21F0CD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DC653-D973-494A-B2D9-22C286A7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8A39-9D94-4571-9B98-921B3E5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53AE5-A0D9-4BBF-942B-AC43A63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66FA8-D671-467E-B14D-7B3ED7D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A6566-9E8F-4F42-B479-E8A8C5D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6D1B-B702-45CD-B8AC-1BD2F781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5065-9497-4F3E-8860-9576372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3600D-5488-4803-80D8-435F5AE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F2EBC-E63A-48AD-9CA6-B16D5A3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5BF9-0BDA-4647-AA45-50F39D4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3A21D-8F28-4EFA-A36F-7705189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C2886-BF59-4FE5-8FAE-C6186C1F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F05B-289F-409C-A2E3-626952AA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82486-3C2C-4385-8E5C-A3DA7AC6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D404C-1987-4F11-A54E-98F127CA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8608-50EF-471B-A584-45FA22B9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FE3EC-CC61-4666-B0A4-2AC5AFC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B32AD-D819-4CDE-AC09-A051A972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C64CE-80CA-46DA-AC5D-4B5B9CB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6681D-E0C1-48A6-B7C6-8586EAD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333-1D8C-497D-B113-E3B5982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E53A-CCF8-4189-8EC2-FC4C0F1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1C01-543F-4289-83B2-8560B36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8781D-028D-4025-A96E-8AE4B418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DBC80-0367-41F8-B721-B711F859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B86E7-1DAB-4112-B242-91525AA0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90293-7E75-4627-895B-25762AA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C9E36-AE60-473F-AE0D-D11417CF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6252B-282C-46EC-8400-8175613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B17E4-DB9C-4B62-A49B-B1FE9D34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A878C-D0F7-4F3C-8373-1A43AF1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E424-68F8-4237-886E-8F6CCA41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D5BE-15BB-4C22-98AE-B89FFDFE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F19C3-2CEE-41AA-8B6D-6E85261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36F1E-AAF6-4BC2-913F-BFE0CA7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270B2-D946-4B90-8B77-0A7861C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65BC7-62C5-4AA0-9462-5044D27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E5BFB-4873-49C9-9BA0-06AE6A70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75DEB-64F2-4C13-9682-5EEE3C35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7DF31-DB6D-41EB-8A57-87507970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03D22-EE31-4CB6-8697-5C8EBAC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3B6E4-7623-4CAD-A8EE-EA047EF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198-719F-4CEC-B395-8A9F7D2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DE001-9B93-4C03-AC22-22C98C9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4756F-D17A-4472-88E1-8376076D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1D8F3-D7C9-4C79-81E4-39C1C49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404D3-51D7-4B7C-950D-8B7B629B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3E08F-7CAC-4F9E-B7B7-13A0ACF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D5220-61DA-461C-AE76-416AE34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F8DF0-3A51-4597-B898-E3C3E9A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771D7-0E62-4B87-BA19-DB74C5AC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56930-D4D3-46D7-85B1-1C50160C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D1645-A11D-4929-A796-07785EFC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A04-3ADD-4B05-9E79-77644676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A9B55-1B5E-4FE1-9DF2-52FF9681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BF9AB-702B-47D2-BBAB-8D1FCDA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60051-56B4-4B2C-936D-4B9A54B9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35C94-2591-4EB7-9EB8-17C15438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E3C9D-DC9E-4601-A668-99E93EDE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5F20F-0856-4E39-940D-B2301F7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8842A-9CB4-448C-919C-B22F42A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2D2BD-67EE-4AB8-B9D5-82AEA05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67240-BCE4-4F73-8735-2C378EA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5EFD4-7E3C-449B-910E-974DC286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BE5-5BFB-4E71-896C-F9A7EE04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9CDD6-F6E6-46B6-9B2D-BEDF13CD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06DC7-072A-448D-AB1C-0123568B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C166D-A021-4437-B54C-06E98BF7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66972-EB40-4C8A-8943-1F652926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0AF99-E33F-4479-A125-15551C8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B2EEC-DE8B-4534-8EEC-F3A4186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2A83E-4C2A-4BA7-B0E8-0C0B3F0D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D6603-0831-4018-942D-0C75C4E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74F87-9C9E-4F4A-91F6-489D5D7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C3FFD-736C-41F1-92DA-E8272BE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67E-5158-4BBB-82C7-27D0572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AA9A6-008B-4A27-B8C8-13B7EFA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6F867-33ED-4A6F-8746-0232CB10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395D9-51FE-494E-967C-EEDFDF17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37C26-4481-4122-93A0-3B5D2E9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26DF1-AE93-48E1-9FD5-CCB066E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12547-0DB7-4EAC-BB3F-2363400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8EE0E-D75A-41BE-9BA3-39067843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B02E4-974F-4319-A9DB-7C9747D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67613-FBC7-4B4A-B1EB-CBD6898C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1CB0D-03FF-4DF4-95A4-5D74716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4D2-8333-489A-8865-4E3FF6C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FC85-5FE2-4E5B-ADEB-1A046722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E3E44-7CE5-4E2F-A8F4-A279891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84878-816E-4857-9028-ECC6F3F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1C088-89B1-4AD1-9F96-42B2F56F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B7922-3A1A-41FA-AA8E-C642F09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E5047-5FD6-4E20-9430-5653C546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7DAF9-4BD8-40B9-AC4F-83EFE656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F5223-3719-43E3-AF2C-DB6FD9DA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C2478-BEA1-4F26-B94F-A24AB960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3EC20-5937-4F08-A853-9CD9ECA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2ADAB-0145-458D-87C9-C2923282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6329-9696-45C1-93FC-BD58659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0AF65-17C0-4CCE-B52D-587F094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C55F8-0A00-47CD-8D88-9227B36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DC79A-30E9-4329-BBA3-2F8DDE2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A796D-C15B-47B4-B0FB-EB661DD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C8445-33C8-49AA-8DDA-D5E2DA1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8429C-478E-4017-8D35-6C51AF13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A778F-2E69-41B8-A14E-CBA04AEC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4F62D-AD45-4E81-ACDA-1453745C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98116-6821-4251-9E5E-DF2CDD14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08A7A-7E7E-41BD-9D6D-4B977D4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0BA4-FD08-4025-92DC-03D9496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6A306-2F02-45B6-A983-9F3700F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EB806-E824-4CA4-BE08-6151457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410E9-0AAE-41D4-80F9-59FED39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30F78-0D9C-415B-AAC9-098FB1C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9D783-09E4-4632-81E3-825498F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0DBC9-C1EC-4175-81AF-B8299E7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E32A2-E5DC-423C-B35A-6C6E57FD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F0367-FA4E-46E1-BD41-6B3EDFBE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AF648-A6BD-41B3-9FB9-3725FF61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4E8DD-51E3-48DE-BE51-42C469D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0A7-036D-4E2E-9500-F8863FF1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86178-600F-45A5-8A9F-1EC135A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E2980-30C0-4499-96C2-B768649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F6064-7772-4D01-B030-A07F1BA9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16FA5-50D1-48BC-956F-C1927B4E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145B5-FCFA-4010-9E1C-3689883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E10C3-8EB1-477F-9B13-E8BB9DD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7A9DB-187F-4542-A2C7-F486B8D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13616-E5A3-4DFA-9ECE-31A3F62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41B79-25A5-4249-98CC-EEE8D09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B1499-7539-489E-A0BF-CD836484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9BD-D929-463F-898D-8194AF3E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BF4B5-DD8B-408A-8498-58C1B9F7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A92FC-37A9-4CD7-BC77-B6E23B3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6699D-274D-421D-AE56-1A8DFF4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F5CCA-A8E5-402A-AC2D-EFA753D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1B5EA-059F-4640-82D6-0C08071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5B044-B121-46FE-9FC7-265E9B08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44653-25F1-4C52-998E-43C5959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B490D-10F6-4CA2-88F0-D2E9401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0F2EF-B71A-4141-9681-922A8F0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233B15-AAAF-4E4D-9D99-52E04F6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0810-A632-4161-9585-9445B030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CAD362-7B9B-4D9D-A642-CEDE53F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ECFD0-163D-4E2E-ABB4-A49A760C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882C9-0E47-4C52-8594-C6140A93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7654-8D9A-42D7-8066-919B282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5B53-FA66-4EB4-9A55-97109A9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A1B8-6C15-4EC7-B454-A103C89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82FA-4931-4478-B51F-5B3DDF80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D6A-4DE7-4B60-9790-49E9A34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DB5E-C837-435F-9980-2ED6925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A787-77D3-4C6C-AEE3-FF15C8D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D456-32FB-485C-9301-0E6E066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DCE6-E874-4D04-8DC9-97E60A1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84D5-D2EA-4C2D-A773-D9EBE96D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2101-6FA2-4290-A1A0-16ED4987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0435-F33F-4508-B4E7-8C1C94B5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FEA4-53AC-4D8D-BC90-3CFFA324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A106-CFDD-4641-80C8-B9AD99B1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83524-ABA6-435F-AD7B-2E4FE62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6F4-FA87-4862-BBF4-ABB928D9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3799-5802-453E-8521-0A8A0B1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12E2-C506-4159-A360-80E9FCBF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08AD-6348-4145-AD75-87FC0C64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AE8A-B041-4E5A-A5FC-4F428FF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AD31-D538-403F-9308-4EAAA9C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29E8-5162-4D8E-BFB5-E9A675B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8902-D1CD-49D0-B283-E81B1531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F68A-34CB-402C-8B9B-55305E2B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AACA-1E64-4AE1-AF51-63C3F24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A41A-F9FE-49BC-AB8C-2F6B1937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17A-B058-457F-B1A5-B09ABB6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BB39-4C73-4450-92BF-5C92B5A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65357-29B6-4FC4-8BE3-FE0B48A1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E9616-9048-41DA-9426-4212CE6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73C6-4192-4A95-B5E7-EBC28167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11F9-F099-4744-A920-9992E6F8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0B9F5-5C66-452B-9665-6EE3B6E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24B0-2808-41EB-ABEC-7E6E1D89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B9E5-BC2E-4DF8-BC75-B8D57ED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BFFD-BD95-4195-8969-58A40A0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1E52-61F1-4287-A720-9DC01BE4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5B1-717F-4189-9595-6E54A6F1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812C-F90B-4496-A5F7-454AFC1B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F442-346F-45EA-A1F0-5D8BE431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DA83-A028-4A46-BFFD-FCECC9C8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01CB-E0BB-4D35-84CB-F3456D67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03661-F970-4375-B5F2-54939FB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30D2-2A96-43F3-A5A2-B611976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4C6A-D989-4434-89F9-E6EAEBA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B7F8-D839-495D-B111-1BBBAC2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2014-F499-4D07-9AB7-2EEEAE2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7710-8981-4E57-A9AC-39DFB0F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FA3-43D0-4F33-AB44-A4EB2EE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B9C0-755D-4D0E-86A2-4D5BE9B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0BB3-242D-4781-8BF6-2129572B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DFC1-1818-4E29-B556-281B5855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BB0C-A2D8-4455-A6DB-C83D25F7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A0DB-2747-4EB5-9957-4E73BBD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FE51-4D5E-4914-A534-031A14A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C42B9-D398-4780-B726-096DC3A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7D36-BF75-4F54-A392-F4506290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8788-E1D6-4C5B-BFD8-1CCEA0FC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C2C4-689E-4A7A-87C8-B34E554C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85A-CE46-4D4E-8C65-152A7F5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C819-55E3-4A71-A9E9-974981C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9167-F955-4C2C-B1D7-2918169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5BB4-1904-447A-B2E1-4A9ACA7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61C3-8963-44DD-89F8-D754F65D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2F54-54BB-493D-B1C0-C7BB683E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6471-0887-457C-A349-358FFD61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B8CCA-FA10-4CD1-8C31-7B01689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B0CB-C582-448F-8B50-EE0A254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3BCE2-E1A2-4F02-959C-21665297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5895E-3147-4ADE-8B39-89EC595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94D-D0B5-42B5-BE72-63D72C5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B3BBD-DE9C-46D0-9A18-EF65F5F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0D7AB-B8E2-4859-8D9A-917EEB16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8BE0-F690-4833-A4B5-D484585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A93A-63B7-4869-AA76-5FC3E9D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7C3C-25FD-49A0-AB1E-5D32B66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11016-9659-4992-A848-2DDA034F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1F7B-F92C-4EFE-8492-49E68DB0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A9546-33F5-47FD-97DF-C8A57DF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2F4E5-2732-4024-ABC9-61CFE8B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54442-5ABF-4846-B7BB-039D8F71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4C0-A560-4DD4-955F-52EF0B1D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606E-35DE-425D-B0E6-DBD1DCDE3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2C1-C67B-4AC0-A3BA-5CE10A572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B2C-9D56-49CF-B731-27E7525F5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97F-2199-4D34-A883-E24E9F3B0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8921-8992-40B9-9FBF-344CD05AD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70EB-C05D-4A6F-AA13-7147DA451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764-8FBA-405E-9B6D-55F28F45BA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A0B-3463-4652-AE08-D5FF92D9B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5E6-0A8C-434E-B01A-231E4C284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8D1-B2F6-421D-9CEE-12A47A6575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1F3-162A-4082-9156-AF0BB3C75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000-20CE-404D-8CAB-A97A84A00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96E-CDA2-4C7F-B1AF-0F64F692C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28F-A78A-41C2-A16C-498128709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ACB-B042-474D-B4E0-889F1D3F8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E3AF-B79C-4F2F-A788-AE2C9431D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7BC0-D032-4AD9-953E-B442D28D7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9C6-626C-4D13-A3A1-95F948424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57E-E65C-4730-8014-CE476F32F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F45-9AB0-4351-A665-FAED3A9B5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99F6-32CB-4DBB-B2D7-F387021A2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2EF6-5E3B-404C-AE84-02A3EEBDF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53D-DF18-468B-AF98-4582EE0C0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96D-05AA-4835-B608-99CE373FAB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5110-2446-4044-9728-7284AFC49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7F0-41F1-4102-91BC-1BD2A3EDD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FCC-E0C1-442B-B882-18717B2E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6B48-3289-4774-9BA8-3418611BC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68A-3795-4DF5-9F61-AF74EF6F95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7F4-5585-4EC7-B3C1-6DAA5138C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5B74-A60C-46E4-BC6E-24F4AE468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38D-4800-43E3-A86F-51C4D1AD1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AEFC-DEAF-4291-86A4-3CFBC0BCB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695-FA21-4EB3-8CB3-A0F4E834B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2C6A-1EDE-437A-93EF-D50F733FE4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4C3-D874-4F02-975B-BC724346D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33C5-A9AA-4BCC-859A-4EA35E479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10C6-C6AD-449A-A439-C20489C03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854-FB40-4F88-A001-C30620142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448000" y="3162240"/>
            <a:ext cx="4248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29440" cy="6000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285840" y="374328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285840" y="417204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285840" y="467208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285840" y="5202360"/>
            <a:ext cx="8786880" cy="725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285840" y="6072120"/>
            <a:ext cx="8786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981920" cy="92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2" descr=""/>
          <p:cNvPicPr/>
          <p:nvPr/>
        </p:nvPicPr>
        <p:blipFill>
          <a:blip r:embed="rId2"/>
          <a:stretch/>
        </p:blipFill>
        <p:spPr>
          <a:xfrm>
            <a:off x="214200" y="1631880"/>
            <a:ext cx="8391600" cy="3819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642960" y="5486400"/>
            <a:ext cx="7962840" cy="1371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285840" y="75420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285840" y="1203480"/>
            <a:ext cx="878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115120" cy="60865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8786880" cy="400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285840" y="1225440"/>
            <a:ext cx="8786880" cy="698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285840" y="20318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285840" y="252108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6"/>
          <a:stretch/>
        </p:blipFill>
        <p:spPr>
          <a:xfrm>
            <a:off x="285840" y="296856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7"/>
          <a:stretch/>
        </p:blipFill>
        <p:spPr>
          <a:xfrm>
            <a:off x="285840" y="3389400"/>
            <a:ext cx="8786880" cy="11192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8"/>
          <a:stretch/>
        </p:blipFill>
        <p:spPr>
          <a:xfrm>
            <a:off x="285840" y="454032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9"/>
          <a:stretch/>
        </p:blipFill>
        <p:spPr>
          <a:xfrm>
            <a:off x="285840" y="502920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0"/>
          <a:stretch/>
        </p:blipFill>
        <p:spPr>
          <a:xfrm>
            <a:off x="285840" y="548964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1"/>
          <a:stretch/>
        </p:blipFill>
        <p:spPr>
          <a:xfrm>
            <a:off x="285840" y="6040440"/>
            <a:ext cx="8786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352440" y="828720"/>
            <a:ext cx="8439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1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6096240" cy="301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285840" y="1060560"/>
            <a:ext cx="8786880" cy="6951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285840" y="187812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285840" y="2344680"/>
            <a:ext cx="8786880" cy="744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5"/>
          <a:stretch/>
        </p:blipFill>
        <p:spPr>
          <a:xfrm>
            <a:off x="285840" y="3274920"/>
            <a:ext cx="87868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2920" y="876240"/>
            <a:ext cx="4200480" cy="4552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86200" y="1843200"/>
            <a:ext cx="4152960" cy="3228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3530520" y="2989440"/>
            <a:ext cx="500040" cy="301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806400" y="4622760"/>
            <a:ext cx="50004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4172040" cy="2685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786200" y="785880"/>
            <a:ext cx="4133880" cy="5857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1531800" y="3092400"/>
            <a:ext cx="500040" cy="301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6143760" y="5214960"/>
            <a:ext cx="2214360" cy="299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4816440" y="5683320"/>
            <a:ext cx="4000680" cy="549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4714920" y="6357960"/>
            <a:ext cx="142884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433440" y="928800"/>
            <a:ext cx="8277120" cy="5705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8032680" y="2603520"/>
            <a:ext cx="357120" cy="299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8032680" y="5289480"/>
            <a:ext cx="3571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42800" y="704880"/>
            <a:ext cx="8258400" cy="4152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2"/>
          <a:stretch/>
        </p:blipFill>
        <p:spPr>
          <a:xfrm>
            <a:off x="1305000" y="4919760"/>
            <a:ext cx="6767280" cy="1901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3143160" y="1000080"/>
            <a:ext cx="857520" cy="300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5072040" y="3143160"/>
            <a:ext cx="64296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576360" y="1181160"/>
            <a:ext cx="7991280" cy="4676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571680" y="2646360"/>
            <a:ext cx="8215200" cy="496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571680" y="3209760"/>
            <a:ext cx="8215200" cy="301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571680" y="3602160"/>
            <a:ext cx="8215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371520" y="1214280"/>
            <a:ext cx="8400960" cy="4429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8035920" y="427824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285840" y="1324080"/>
            <a:ext cx="8572320" cy="4209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6929280" y="4643280"/>
            <a:ext cx="465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33360" y="1219320"/>
            <a:ext cx="84772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27:3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